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705-D7C3-48EE-AC45-75C10722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9C6-818A-4909-BFC3-CBA1FA21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037-50F3-4ED6-AA92-B0DB0AE4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131-C323-4FBD-8651-EF57C4F8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B11-BE1A-42AA-99DA-D4E4B4F9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1FA-4BEB-4C47-8D25-5EC34ED8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EE6-BC15-4A4E-9A19-E1A760CB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D7C-B8A7-425F-972F-3A618E23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41D-1FE7-4C08-ACF8-AF7B9282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DB2-08A2-4C94-AAC0-7FFA2A36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CBF-E72B-435D-A76B-4B0A8EF2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DF9-99E2-4976-A4FF-D974D5CA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DFEB-6946-4D55-BA23-5D8435AD7E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C7CCB698-18E4-4646-858B-44C3C5DA32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04840" y="1285920"/>
            <a:ext cx="8653320" cy="53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John 2.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αυτα γραφω ὑμι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ἱνα μη ἁμαρτη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writing these things to you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 that you may no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Pet. 3.18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Χριστος ἁπαξ περι ἁματιων ἐπαθεν 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ἱν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ὑμας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ροσαγαγ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ῳ θε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t once for all suffered for sins …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order to br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to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Cor. 11.27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ς ἀν ἐσθι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ν ἀρτον ἠ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ιν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 ποτηριον του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υριος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oever ea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bread o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rink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cup of the Lord.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46200" y="3564000"/>
          <a:ext cx="7840440" cy="1508040"/>
        </p:xfrm>
        <a:graphic>
          <a:graphicData uri="http://schemas.openxmlformats.org/drawingml/2006/table">
            <a:tbl>
              <a:tblPr/>
              <a:tblGrid>
                <a:gridCol w="933480"/>
                <a:gridCol w="350640"/>
                <a:gridCol w="1081080"/>
                <a:gridCol w="3537000"/>
                <a:gridCol w="351000"/>
                <a:gridCol w="158724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ς ἀ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π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που ἀ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τα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85"/>
          <p:cNvSpPr/>
          <p:nvPr/>
        </p:nvSpPr>
        <p:spPr>
          <a:xfrm>
            <a:off x="2019240" y="1508040"/>
            <a:ext cx="5105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3.1 Indefinite claus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6"/>
          <p:cNvSpPr/>
          <p:nvPr/>
        </p:nvSpPr>
        <p:spPr>
          <a:xfrm>
            <a:off x="1333440" y="2398680"/>
            <a:ext cx="647712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ν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+ Subjunctive = indefinit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6D8EB5E9-7538-4915-92D3-6B6DDF6C59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4FAD9A81-3440-4110-9005-0EA9A7D0AEB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0360" y="1357200"/>
            <a:ext cx="92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3.35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ὁς ἀν ποιησ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ο θελημα του θεου ..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oever do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will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hew 6.6: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 δε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ὁταν προσευχ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u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ever you pr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. 14.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τοι οἱ ἀκολουθουντες τῳ ἀρνιῳ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ὁπου ἀ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ὑπαγ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se ones follow the lamb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rever he go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0254CEEF-73E5-4E4C-923F-352819E912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14200" y="1571760"/>
            <a:ext cx="86868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in plac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ek uses the indefinite strictly, even when there is no ‘ever’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 6.6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‘ὁταν προσευχῃ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eans 'whenever you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y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6.10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‘μενετε ἑως ἀν ἐξελθητε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eans 'remai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l ever you leav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1866960" y="1176480"/>
            <a:ext cx="541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3.2 Purpose Claus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52480" y="1833480"/>
            <a:ext cx="5639040" cy="62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</a:t>
            </a:r>
            <a:r>
              <a:rPr b="1" lang="el-GR" sz="3500" spc="-1" strike="noStrike">
                <a:solidFill>
                  <a:srgbClr val="000000"/>
                </a:solidFill>
                <a:latin typeface="Gentium"/>
              </a:rPr>
              <a:t>ἱνα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Subjunctive =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2920" y="2666880"/>
            <a:ext cx="8858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ohn 8.59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ἠραν οὐν λιθους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ἱνα βαλωσι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 ἐπ’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They took stone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order that they might thr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(them) a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tt 7.1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μη κρινετε,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ἱνα μη κριθητε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o not judge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order that you might not be judg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hil. 1.9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και τουτο προσευχομαι,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ἱν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 ἡ ἀγαπη ὑμ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 ...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περισσευῃ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 pray th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your lov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y overfl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8DC2D8DA-4D22-49D7-8299-B01DFC19A6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82DE8E0F-676B-47E8-9127-566BFAA724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7040" y="1631880"/>
          <a:ext cx="8699760" cy="3969000"/>
        </p:xfrm>
        <a:graphic>
          <a:graphicData uri="http://schemas.openxmlformats.org/drawingml/2006/table">
            <a:tbl>
              <a:tblPr/>
              <a:tblGrid>
                <a:gridCol w="2217600"/>
                <a:gridCol w="216000"/>
                <a:gridCol w="2426040"/>
                <a:gridCol w="1797120"/>
                <a:gridCol w="191520"/>
                <a:gridCol w="1851480"/>
              </a:tblGrid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ther of these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ραν οὐν λιθου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ἱνα βαλωσ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π’ αὐτ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be translated by any of the following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fore they took st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order  that they might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m) at him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order to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that they might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27AB5EDA-092B-4F25-AE1C-DCA3003306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211400" y="3500280"/>
            <a:ext cx="6691320" cy="2174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looked at the two most common uses of the Subjunctive. Notice that each has a 'flag word' 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α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ν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πω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ich alerts you to the fact that a Subjunctive is on the 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6200" y="1428840"/>
            <a:ext cx="88390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πω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Subjunctive is a more unusual alternativ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ν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Subjunc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2B3E513D-3C86-4A47-BA82-2D0E3F2E94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104840"/>
            <a:ext cx="8229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3.3 Exhortations (Hortatory Subjunctiv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486080" y="1797120"/>
            <a:ext cx="617220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lural Subjunctive = 'let us'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-768240" y="2544840"/>
            <a:ext cx="97581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 4.35: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διελθωμε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 εἰς το περα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t us go to the other 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om. 14.19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ἀρα οὐν τα της εἰρηνης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διωκωμε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therefor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t us purs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the things of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b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.22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προσερχωμεθ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 μετα ἀληθινης καρδιας ἐν πληροφοριᾳ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πιστεω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t us approa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with a true heart in full assurance of fai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8FC096F0-E074-46DE-91B8-C9C7A1652D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1176480"/>
            <a:ext cx="853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3.4 Deliberation (Deliberative Subjunctiv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09480" y="1816200"/>
            <a:ext cx="792504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erson Subjunctive = delib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14200" y="2473200"/>
            <a:ext cx="855828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ke 3.10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ί οὐ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ποιησωμε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at the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hould we 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b. 11.32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τί ἐτ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λεγ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– And what mor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hould I s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m. 6.15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ί οὐ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ἁμαρτησωμ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, ὁτι οὐκ ἐσμεν ὑπο νομον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λα ὑπο χαρ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then?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hould we s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because we are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under law but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 grac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BD1AEAD4-88E7-47E7-9D31-D1BF84C840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76520" y="1219320"/>
            <a:ext cx="5790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3.5 Prohibitio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38080" y="2133720"/>
            <a:ext cx="746784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rist Subjunctive replaces Aorist Imperative in prohib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3786120"/>
          <a:ext cx="6622920" cy="1920960"/>
        </p:xfrm>
        <a:graphic>
          <a:graphicData uri="http://schemas.openxmlformats.org/drawingml/2006/table">
            <a:tbl>
              <a:tblPr/>
              <a:tblGrid>
                <a:gridCol w="1392120"/>
                <a:gridCol w="1471680"/>
                <a:gridCol w="375912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Imperative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μ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244440" y="1263600"/>
            <a:ext cx="8458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11.4: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η εἰσενεγκῃ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ἡμας εἰς πειρασμ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o not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 to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. 10.6: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η εἰπῃ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ν τῃ καρδιᾳ σου∙ τίς ἀναβησεται εἰς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ον οὐραν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o not s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your heart, 'Who will go up to heaven?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10.5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ουτους τους δωδεκα ἀπεστειλεν ὁ Ἰησους ...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λεγων∙ Εἰς ὁδον ἐθνω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η ἀπελθητε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εἰς πολι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Σαμαριτω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η εἰσελθη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sent out these twelve … saying '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o not go 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o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ad of the Gentiles, 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o not en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city of the Samarians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D43D2A19-99D6-46F5-B2C9-4AA2720FBB8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8F0C0D29-674A-4EF8-804F-A747A572D0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57120" y="1657440"/>
            <a:ext cx="840096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6.10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ὁπου ἐαν εἰσελθητ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εἰς οἰκιαν, ἐκει μενετ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rever you en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house, stay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tus 3.12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ὁταν πεμψω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Ἀρτεμαν προς σε ἠ Τυχικον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πουδασον ἐλθειν προς με εἰς Νικοπολι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(ever) I s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temas to you, or Tychicu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 effort to come to me at Nicopol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.38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λεγει αὐτοις∙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Ἀγωμ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ἀλλαχ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he said to them, '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et us g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sewhere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6FAD3462-CCF1-4437-8D8E-49C21413BA1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876240" y="1119240"/>
            <a:ext cx="7391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3.6 Emphatic Negative Futur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562040" y="1749600"/>
            <a:ext cx="6019920" cy="111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000000"/>
                </a:solidFill>
                <a:latin typeface="Gentium"/>
              </a:rPr>
              <a:t>οὐ</a:t>
            </a:r>
            <a:r>
              <a:rPr b="1" lang="en-GB" sz="3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500" spc="-1" strike="noStrike">
                <a:solidFill>
                  <a:srgbClr val="000000"/>
                </a:solidFill>
                <a:latin typeface="Gentium"/>
              </a:rPr>
              <a:t>μη</a:t>
            </a:r>
            <a:r>
              <a:rPr b="1" lang="en-GB" sz="3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 Aorist Subjunctive = emphatic negative fu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2871720"/>
            <a:ext cx="914400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13.30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μην λεγω ὑμιν ὁτ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οὐ μη παρελθῃ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ἡ γενεα αὑτ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ruly I tell to you that this generatio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ill (definitely) not pass aw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hn 6.37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ον ἐρχομενον προς ἐμε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οὐ μη ἐκβαλω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 ἐξ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ne who comes to m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will (definitely) not drive aw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26.35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ει αὐτῳ ὁ Πετρος∙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...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οὑ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μη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</a:rPr>
              <a:t>ἀπαρνησομ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ter said to him, '…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will never den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you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EEC160C8-03EA-4979-91D0-56C8ED94BC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61800" y="1428840"/>
            <a:ext cx="84963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6.24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ελθουσα εἰπεν τῃ μητρι αὐτης∙ Τί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αἰτησωμ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she had gone out, she said to her mother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Wh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hould I ask (f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b. 10.35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μη ἀποβαλητ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οὐν την παρρησιαν ὑμ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o not thr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way you boldnes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. 18.2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ηθησεται Βαβυλων ἡ μεγαλη πολις 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οὐ μη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εὑρεθῃ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ἐτ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bylon the great city will be thrown down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i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ever be fou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92095B8E-A5E2-43F8-9EE6-AAC6D442CB4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THE IDEA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14240" y="211284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bjunctive is the fifth and final Mood which occurs in all three vo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, middle, or pas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A7ED41F6-2058-41B8-8195-6C9CB58096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401840" y="2327400"/>
            <a:ext cx="6324480" cy="1810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any au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lace the Indicative endings with the Subjunctive 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789BBEEB-FBB7-4B9F-B802-267832201D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12840" y="1455840"/>
            <a:ext cx="8501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2.1 Present Active, Aorist Active, Aorist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85840" y="2714760"/>
          <a:ext cx="8580240" cy="1828800"/>
        </p:xfrm>
        <a:graphic>
          <a:graphicData uri="http://schemas.openxmlformats.org/drawingml/2006/table">
            <a:tbl>
              <a:tblPr/>
              <a:tblGrid>
                <a:gridCol w="2428920"/>
                <a:gridCol w="6151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ω, λυῃς, λυῃ, λυωμεν, λυητε, λυ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ω, λυσῃς, λυσῃ, λυσωμεν, λυσητε, λυσ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ω, βαλῃς, βαλῃ, βαλωμεν, βαλητε, βαλ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ω, λυθῃς, λυθῃ, λυθωμεν, λυθητε, λυθ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3"/>
          <p:cNvSpPr/>
          <p:nvPr/>
        </p:nvSpPr>
        <p:spPr>
          <a:xfrm>
            <a:off x="0" y="1461960"/>
            <a:ext cx="9061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.2.2 Present Middle, Present Passive, Aorist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3160" y="2389320"/>
          <a:ext cx="8785080" cy="3047760"/>
        </p:xfrm>
        <a:graphic>
          <a:graphicData uri="http://schemas.openxmlformats.org/drawingml/2006/table">
            <a:tbl>
              <a:tblPr/>
              <a:tblGrid>
                <a:gridCol w="1404720"/>
                <a:gridCol w="7380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ωμαι, ῥυῃ, ῥυηται, ῥυωμεθα, ῥυησθε, ῥυωντα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ωμαι, λυῃ, λυηται, λυωμεθα, λυησθε, λυ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σωμαι, ῥυσῃ, ῥυσηται, ῥυσωμεθα, ῥυσησθε, ῥυσ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ενωμαι, γενῃ, γενηται, γενωμεθα, γενησθε, γεν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00B3C446-45E5-4FC6-B29D-1008AAED5C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ACBF3456-38EE-41E9-871B-31BD5CFBC1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7"/>
          <p:cNvSpPr/>
          <p:nvPr/>
        </p:nvSpPr>
        <p:spPr>
          <a:xfrm>
            <a:off x="303120" y="1614600"/>
            <a:ext cx="850104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bs are easy in the Subjunctive – the endings always begin with a long vowel, so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always be absor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us, the Present Active Subjunct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ῃς, φιλῃ, φιλωμεν, φιλητε, φιλω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μ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the same endings – its Present Subjunctive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ᾐ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ᾐ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ὠμ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ὠσ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409760" y="2604960"/>
            <a:ext cx="6324480" cy="132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Subjunctive –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rist Subjunctive – Defa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:Grammar </a:t>
            </a:r>
            <a:fld id="{A7F5DBF5-3100-4689-9E51-89C58053F8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3:35:06Z</dcterms:created>
  <dc:creator>Sarah</dc:creator>
  <dc:description/>
  <dc:language>en-US</dc:language>
  <cp:lastModifiedBy>Sarah</cp:lastModifiedBy>
  <dcterms:modified xsi:type="dcterms:W3CDTF">2009-07-11T11:15:48Z</dcterms:modified>
  <cp:revision>51</cp:revision>
  <dc:subject/>
  <dc:title>Slide 1</dc:title>
</cp:coreProperties>
</file>